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A74F9-5057-4CB5-A853-11FE8A0E4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E363E-64C8-4217-A3B0-21164E173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13D14-A580-4460-ABD0-3A8A109B1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12700-040A-4D88-8221-3E14BA8C4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19C2B-A5B7-4F72-AFEC-5364D40D2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DBCFF-A34A-4F5F-843A-027234929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68A25-B067-45BE-87C1-308124E28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2D1DA-A7BC-4F74-82CE-91680167A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FFABB-01AB-496D-8D71-FF0448210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7CD91-750E-4263-9BB5-57837B126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B338B-BCF9-4652-BB0C-7E4822F35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0DFE7-7A58-4DF7-BD2F-AAAC2448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317CB-4CF3-4A64-9EA4-45B2D2478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AF2C7-208F-4050-BDDD-BA6D2527D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BF670-F93C-43DC-B33E-E24ED0CCC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E999D-F596-426D-90A8-9633E9A08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82571-17C5-4610-95CC-C3AC22B1E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D6B51B9-DBA3-437E-9208-9CBD6B17B4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4B1AE9-0304-491A-B4BA-DE47642FE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A7F0C20-A7DE-4A9F-9B17-B7ABD3DD19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2F4721-94E5-47E2-AD83-847CF93EE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3231A7B-083F-4771-A3A0-9FD9DDBD9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E2924-231B-4368-ABA0-CDA9DBE54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849FD5-1247-4C43-B6D2-84AF9E260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4ADFA8-3C10-49A4-86E6-85A68100B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BAE66E-DFDC-4570-853C-976181C0B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8D159F-7435-4970-A233-A598D7E15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DCC16F6-8C5C-475E-9E22-5A255B18F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50083D1-5E53-419D-9942-020238AB0C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DE3AE06-D82F-4520-8638-6D4E035AB9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BDF61D-E9E4-4D0B-946B-FB62DEAB7A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E9C34-5561-42EB-AC46-F1286C865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DA030-56A6-49BC-AC53-5ABDE9E394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B64D9-D972-438E-902D-E3EB42F62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09D67-7B5C-43F8-9FF4-E4AA9A0F1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A5567C-1B37-4251-B6FD-BB02471EF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D3C04-F6B3-47E2-8BC9-987114E3D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A8948-A7BE-41C2-A6BB-E1A4BA975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AD144-956D-42A4-B09B-B0B916940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A3B09-DE9B-468B-9031-67208B4D0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639A3-6F94-4EDD-9C07-2EBAEF17C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A976F1-2A4E-4EFE-A5F9-A9B921AE5E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A22A88-B05C-4F85-95E4-0EE4E81BE7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5638B34-EC24-4C38-B22E-AD07979E01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EC13E-6325-4671-A6A1-4B0081225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D187C9-C94A-4FD8-806C-B66A084EAB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C8027E-515B-48B3-AE2C-8D0EE7A12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9B5DAA-FE20-4BB0-9954-1BF2DB8F32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79F2D95-3F62-474B-905D-E80E78EC8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D56D7B-11BE-40FC-BCEB-7048E9BDBF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67431C-E1B2-4D82-96F6-7B88BCC28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9E6A62-586F-43F4-A081-4E167CB4A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1F81F9-2D82-422C-9ED3-D52DF06A8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04E00C-40AF-4C0C-84ED-384AB4B0D4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E92C27-E291-4BA7-ADF1-B2F9D29188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03676-6571-46FD-8BD0-BB3D7862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8D4B9F5-B1BD-4879-A38E-5FABAFFFDC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612F580-A6AF-484F-AFDD-93D84EB799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100B554-4555-4A7E-8F3D-B93B785565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1D3F6F7-977F-4C6F-97FF-EAE7FD37DA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4AA93D9-4B30-4B8D-B855-A2E11CA01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A49B26F-96D2-49D5-9C43-21231B6C81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C3CEF1A-3A60-4150-A9F1-F65AE81D87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2521D5-2AD8-4FAA-ADD3-80E505616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B215EF6-CCB7-4CC8-B7CB-89E012778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0FD3F17-75A5-42C4-ABED-AA3AF7C2C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B5C36-7191-4754-973E-465FA7E53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BED2B92-696F-4453-B8C4-3396A1A3FF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424FC6E-3EC6-4244-BEEB-A8C89B1D11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29E8909-2845-4137-AD87-1C06E5D0A3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E7782BE-8F2C-4D07-A4DC-DE0707A9A1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A071D3-E6AC-4245-B08D-E41F64E0B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F9AB86-8EE4-4FDE-8D7C-77CED65DAD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92E79B8-7525-4E00-8A9A-181C0839C5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6EECDA8-6CA3-4DAC-9020-9439AA46F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528CC34-4705-4AB6-9A20-8ED87F08FA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61D604C-56DD-4CE9-985B-ADD50DABD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727DF-820A-43D3-AC3E-E2B6DABB3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6B58A7-339E-4C65-BD2F-A2B2631BD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7445194-034B-4F7B-B0FD-46AFA9FB5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05FCB6-B929-4237-AD94-AB97BDA30E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FAECB14-DC03-4BA5-84EF-F9AB870186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E00661B-AF16-40D6-9679-13CAF6A64D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54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8A712-362A-484C-8F7E-7A3D82B7A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58CBC-E6B7-4C9E-906E-E37BA93BF534}"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43533-A38B-4268-92C8-208DDD0C5FB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c0d7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8e5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8e5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df3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c0d7aa">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df3e7">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c0d7aa">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c0d7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3970D-130E-4C44-A006-07D4AF6F6010}"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0E58E-03BB-405F-AE8F-3CF7A9DF431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26550-8385-47CC-9AF8-1E5200359210}"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AAAD3-9367-4221-AF0D-0EF59AA8BA3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c0d7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8e5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8e5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df3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c0d7aa">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df3e7">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c0d7aa">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c0d7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ED0EC-94C9-4CD3-9021-B74445A4A54F}"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48BCD-1EFD-46A5-971A-01F0DDF8BCE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0993B-64AA-4362-A147-D1234AAC5C51}"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8C53F-EEB5-421B-B98A-504C50DA6B8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c0d7aa">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c0d7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7CFD2-3262-456E-AFEB-A53BF237DCAC}"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C4465-4D05-4863-89B9-4ACCDC59FB5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80b6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c0d7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c0d7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80b60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lick to edit the title text format</a:t>
            </a:r>
            <a:endParaRPr b="0" lang="en-US" sz="3000" spc="-1" strike="noStrike">
              <a:solidFill>
                <a:srgbClr val="4654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80b6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70a00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d7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ec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6546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3EFB2-5883-4049-8771-81F07059F395}" type="datetime">
              <a:rPr b="0" lang="en-US" sz="1200" spc="-1" strike="noStrike">
                <a:solidFill>
                  <a:srgbClr val="465466"/>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7E875-5888-4CC6-995E-66716BEF4F2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BELLRINGER</a:t>
            </a:r>
            <a:endParaRPr b="0" lang="en-US" sz="3000" spc="-1" strike="noStrike">
              <a:solidFill>
                <a:srgbClr val="465466"/>
              </a:solidFill>
              <a:latin typeface="Century Schoolbook"/>
            </a:endParaRPr>
          </a:p>
        </p:txBody>
      </p:sp>
      <p:sp>
        <p:nvSpPr>
          <p:cNvPr id="35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Century Schoolbook"/>
              </a:rPr>
              <a:t>Where have you heard of reducing, reusing, and recycling?</a:t>
            </a:r>
            <a:endParaRPr b="0" lang="en-US" sz="6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77120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65466"/>
                </a:solidFill>
                <a:latin typeface="Century Schoolbook"/>
              </a:rPr>
              <a:t>2.3 3R’S CLASS NOTES</a:t>
            </a:r>
            <a:endParaRPr b="0" lang="en-US" sz="6200" spc="-1" strike="noStrike">
              <a:solidFill>
                <a:srgbClr val="465466"/>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CONSERVATION</a:t>
            </a:r>
            <a:endParaRPr b="0" lang="en-US" sz="3000" spc="-1" strike="noStrike">
              <a:solidFill>
                <a:srgbClr val="465466"/>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5430bb"/>
                </a:solidFill>
                <a:uFillTx/>
                <a:latin typeface="Century Schoolbook"/>
              </a:rPr>
              <a:t>We can conserve natural resources by reducing, reusing, and recycling.</a:t>
            </a:r>
            <a:endParaRPr b="0" lang="en-US" sz="44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5430bb"/>
                </a:solidFill>
                <a:uFillTx/>
                <a:latin typeface="Century Schoolbook"/>
              </a:rPr>
              <a:t>Conserve means to save or protect</a:t>
            </a: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DUCE</a:t>
            </a:r>
            <a:endParaRPr b="0" lang="en-US" sz="3000" spc="-1" strike="noStrike">
              <a:solidFill>
                <a:srgbClr val="465466"/>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430bb"/>
                </a:solidFill>
                <a:uFillTx/>
                <a:latin typeface="Century Schoolbook"/>
              </a:rPr>
              <a:t>Reduce – to make less waste by purchasing less</a:t>
            </a:r>
            <a:endParaRPr b="0" lang="en-US" sz="4000" spc="-1" strike="noStrike">
              <a:solidFill>
                <a:srgbClr val="000000"/>
              </a:solidFill>
              <a:latin typeface="Century Schoolbook"/>
            </a:endParaRPr>
          </a:p>
        </p:txBody>
      </p:sp>
      <p:pic>
        <p:nvPicPr>
          <p:cNvPr id="374" name="Picture 3" descr=""/>
          <p:cNvPicPr/>
          <p:nvPr/>
        </p:nvPicPr>
        <p:blipFill>
          <a:blip r:embed="rId2"/>
          <a:stretch/>
        </p:blipFill>
        <p:spPr>
          <a:xfrm>
            <a:off x="4788000" y="3681360"/>
            <a:ext cx="259056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duce?</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USE</a:t>
            </a:r>
            <a:endParaRPr b="0" lang="en-US" sz="3000" spc="-1" strike="noStrike">
              <a:solidFill>
                <a:srgbClr val="465466"/>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430bb"/>
                </a:solidFill>
                <a:uFillTx/>
                <a:latin typeface="Century Schoolbook"/>
              </a:rPr>
              <a:t>Reuse – to use materials again instead of throwing them away</a:t>
            </a:r>
            <a:endParaRPr b="0" lang="en-US" sz="4000" spc="-1" strike="noStrike">
              <a:solidFill>
                <a:srgbClr val="000000"/>
              </a:solidFill>
              <a:latin typeface="Century Schoolbook"/>
            </a:endParaRPr>
          </a:p>
        </p:txBody>
      </p:sp>
      <p:pic>
        <p:nvPicPr>
          <p:cNvPr id="379" name="Picture 4" descr=""/>
          <p:cNvPicPr/>
          <p:nvPr/>
        </p:nvPicPr>
        <p:blipFill>
          <a:blip r:embed="rId2"/>
          <a:stretch/>
        </p:blipFill>
        <p:spPr>
          <a:xfrm>
            <a:off x="4572000" y="3429000"/>
            <a:ext cx="2895480" cy="298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r>
              <a:rPr b="0" lang="en-US" sz="3000" spc="-1" strike="noStrike">
                <a:solidFill>
                  <a:srgbClr val="465466"/>
                </a:solidFill>
                <a:latin typeface="Century Schoolbook"/>
              </a:rPr>
              <a:t>	</a:t>
            </a:r>
            <a:endParaRPr b="0" lang="en-US" sz="3000" spc="-1" strike="noStrike">
              <a:solidFill>
                <a:srgbClr val="465466"/>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use?</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CYCLE</a:t>
            </a:r>
            <a:endParaRPr b="0" lang="en-US" sz="3000" spc="-1" strike="noStrike">
              <a:solidFill>
                <a:srgbClr val="465466"/>
              </a:solidFill>
              <a:latin typeface="Century Schoolbook"/>
            </a:endParaRPr>
          </a:p>
        </p:txBody>
      </p:sp>
      <p:sp>
        <p:nvSpPr>
          <p:cNvPr id="383" name=""/>
          <p:cNvSpPr txBox="1"/>
          <p:nvPr/>
        </p:nvSpPr>
        <p:spPr>
          <a:xfrm>
            <a:off x="456840" y="211608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430bb"/>
                </a:solidFill>
                <a:uFillTx/>
                <a:latin typeface="Century Schoolbook"/>
              </a:rPr>
              <a:t>Recycle – to save and take reusable materials to places where they can be remade into either the same product or new products </a:t>
            </a:r>
            <a:endParaRPr b="0" lang="en-US" sz="4000" spc="-1" strike="noStrike">
              <a:solidFill>
                <a:srgbClr val="000000"/>
              </a:solidFill>
              <a:latin typeface="Century Schoolbook"/>
            </a:endParaRPr>
          </a:p>
        </p:txBody>
      </p:sp>
      <p:pic>
        <p:nvPicPr>
          <p:cNvPr id="384" name="Picture 3" descr=""/>
          <p:cNvPicPr/>
          <p:nvPr/>
        </p:nvPicPr>
        <p:blipFill>
          <a:blip r:embed="rId2"/>
          <a:stretch/>
        </p:blipFill>
        <p:spPr>
          <a:xfrm>
            <a:off x="6680160" y="0"/>
            <a:ext cx="2146320" cy="214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does it mean to recycle?</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306440"/>
            <a:ext cx="7467480" cy="103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5466"/>
                </a:solidFill>
                <a:latin typeface="Century Schoolbook"/>
              </a:rPr>
              <a:t>GUIDED PRACTICE</a:t>
            </a:r>
            <a:br>
              <a:rPr sz="2700"/>
            </a:br>
            <a:br>
              <a:rPr sz="2700"/>
            </a:br>
            <a:br>
              <a:rPr sz="2700"/>
            </a:br>
            <a:endParaRPr b="0" lang="en-US" sz="2700" spc="-1" strike="noStrike">
              <a:solidFill>
                <a:srgbClr val="465466"/>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1</a:t>
            </a:r>
            <a:endParaRPr b="0" lang="en-US" sz="3000" spc="-1" strike="noStrike">
              <a:solidFill>
                <a:srgbClr val="465466"/>
              </a:solidFill>
              <a:latin typeface="Century Schoolbook"/>
            </a:endParaRPr>
          </a:p>
        </p:txBody>
      </p:sp>
      <p:sp>
        <p:nvSpPr>
          <p:cNvPr id="389" name=""/>
          <p:cNvSpPr txBox="1"/>
          <p:nvPr/>
        </p:nvSpPr>
        <p:spPr>
          <a:xfrm>
            <a:off x="483840" y="1447920"/>
            <a:ext cx="8202600" cy="4962240"/>
          </a:xfrm>
          <a:prstGeom prst="rect">
            <a:avLst/>
          </a:prstGeom>
          <a:noFill/>
          <a:ln w="0">
            <a:noFill/>
          </a:ln>
        </p:spPr>
        <p:txBody>
          <a:bodyPr anchor="t">
            <a:normAutofit/>
          </a:bodyPr>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e phrase: reuse, reduce, recycle refers to the things that humans can do to:</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a. Keep their houses clean</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b. Save money</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c. Conserve resources</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d. Avoid house fires</a:t>
            </a:r>
            <a:endParaRPr b="0" lang="en-US" sz="4400" spc="-1" strike="noStrike">
              <a:solidFill>
                <a:srgbClr val="000000"/>
              </a:solidFill>
              <a:latin typeface="Century Schoolbook"/>
            </a:endParaRPr>
          </a:p>
          <a:p>
            <a:pPr marL="272880" indent="-272880">
              <a:lnSpc>
                <a:spcPct val="9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is a natural resource?</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2</a:t>
            </a:r>
            <a:endParaRPr b="0" lang="en-US" sz="3000" spc="-1" strike="noStrike">
              <a:solidFill>
                <a:srgbClr val="465466"/>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anchor="ctr">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 </a:t>
            </a:r>
            <a:r>
              <a:rPr b="0" lang="en-US" sz="6000" spc="-1" strike="noStrike">
                <a:solidFill>
                  <a:srgbClr val="000000"/>
                </a:solidFill>
                <a:latin typeface="Century Schoolbook"/>
              </a:rPr>
              <a:t>Give an example of </a:t>
            </a:r>
            <a:r>
              <a:rPr b="1" lang="en-US" sz="6000" spc="-1" strike="noStrike">
                <a:solidFill>
                  <a:srgbClr val="000000"/>
                </a:solidFill>
                <a:latin typeface="Century Schoolbook"/>
              </a:rPr>
              <a:t>reducing:</a:t>
            </a:r>
            <a:endParaRPr b="0" lang="en-US" sz="6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3</a:t>
            </a:r>
            <a:endParaRPr b="0" lang="en-US" sz="3000" spc="-1" strike="noStrike">
              <a:solidFill>
                <a:srgbClr val="465466"/>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ctr">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 </a:t>
            </a:r>
            <a:r>
              <a:rPr b="0" lang="en-US" sz="6000" spc="-1" strike="noStrike">
                <a:solidFill>
                  <a:srgbClr val="000000"/>
                </a:solidFill>
                <a:latin typeface="Century Schoolbook"/>
              </a:rPr>
              <a:t>Give an example of </a:t>
            </a:r>
            <a:r>
              <a:rPr b="1" lang="en-US" sz="6000" spc="-1" strike="noStrike">
                <a:solidFill>
                  <a:srgbClr val="000000"/>
                </a:solidFill>
                <a:latin typeface="Century Schoolbook"/>
              </a:rPr>
              <a:t>reusing:</a:t>
            </a:r>
            <a:endParaRPr b="0" lang="en-US" sz="6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4</a:t>
            </a:r>
            <a:endParaRPr b="0" lang="en-US" sz="3000" spc="-1" strike="noStrike">
              <a:solidFill>
                <a:srgbClr val="465466"/>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anchor="ctr">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 </a:t>
            </a:r>
            <a:r>
              <a:rPr b="0" lang="en-US" sz="6000" spc="-1" strike="noStrike">
                <a:solidFill>
                  <a:srgbClr val="000000"/>
                </a:solidFill>
                <a:latin typeface="Century Schoolbook"/>
              </a:rPr>
              <a:t>Give an example of </a:t>
            </a:r>
            <a:r>
              <a:rPr b="1" lang="en-US" sz="6000" spc="-1" strike="noStrike">
                <a:solidFill>
                  <a:srgbClr val="000000"/>
                </a:solidFill>
                <a:latin typeface="Century Schoolbook"/>
              </a:rPr>
              <a:t>recycling:</a:t>
            </a:r>
            <a:endParaRPr b="0" lang="en-US" sz="6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5466"/>
                </a:solidFill>
                <a:latin typeface="Century Schoolbook"/>
              </a:rPr>
              <a:t>CLASSIFY THE FOLLOWING SITUATIONS AS REUSE, REDUCE, OR RECYCLE:</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5</a:t>
            </a:r>
            <a:endParaRPr b="0" lang="en-US" sz="2700" spc="-1" strike="noStrike">
              <a:solidFill>
                <a:srgbClr val="465466"/>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ctr">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Michael closes the window to lower the amount of heat his house uses up.</a:t>
            </a:r>
            <a:endParaRPr b="0" lang="en-US" sz="6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5466"/>
                </a:solidFill>
                <a:latin typeface="Century Schoolbook"/>
              </a:rPr>
              <a:t>CLASSIFY THE FOLLOWING SITUATIONS AS REUSE, REDUCE, OR RECYCLE:</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6</a:t>
            </a:r>
            <a:endParaRPr b="0" lang="en-US" sz="2700" spc="-1" strike="noStrike">
              <a:solidFill>
                <a:srgbClr val="465466"/>
              </a:solidFill>
              <a:latin typeface="Century Schoolbook"/>
            </a:endParaRPr>
          </a:p>
        </p:txBody>
      </p:sp>
      <p:sp>
        <p:nvSpPr>
          <p:cNvPr id="399" name=""/>
          <p:cNvSpPr txBox="1"/>
          <p:nvPr/>
        </p:nvSpPr>
        <p:spPr>
          <a:xfrm>
            <a:off x="703440" y="1614600"/>
            <a:ext cx="7772400" cy="4572000"/>
          </a:xfrm>
          <a:prstGeom prst="rect">
            <a:avLst/>
          </a:prstGeom>
          <a:noFill/>
          <a:ln w="0">
            <a:noFill/>
          </a:ln>
        </p:spPr>
        <p:txBody>
          <a:bodyPr anchor="ctr">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entury Schoolbook"/>
              </a:rPr>
              <a:t>Lydia never puts her plastic in the garbage, she sends it to a factory that will make it into another plastic product.</a:t>
            </a:r>
            <a:endParaRPr b="0" lang="en-US" sz="5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5466"/>
                </a:solidFill>
                <a:latin typeface="Century Schoolbook"/>
              </a:rPr>
              <a:t>CLASSIFY THE FOLLOWING SITUATIONS AS REUSE, REDUCE, OR RECYCLE:</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7</a:t>
            </a:r>
            <a:endParaRPr b="0" lang="en-US" sz="2700" spc="-1" strike="noStrike">
              <a:solidFill>
                <a:srgbClr val="465466"/>
              </a:solidFill>
              <a:latin typeface="Century Schoolbook"/>
            </a:endParaRPr>
          </a:p>
        </p:txBody>
      </p:sp>
      <p:sp>
        <p:nvSpPr>
          <p:cNvPr id="401" name=""/>
          <p:cNvSpPr txBox="1"/>
          <p:nvPr/>
        </p:nvSpPr>
        <p:spPr>
          <a:xfrm>
            <a:off x="703440" y="1614600"/>
            <a:ext cx="7772400" cy="4572000"/>
          </a:xfrm>
          <a:prstGeom prst="rect">
            <a:avLst/>
          </a:prstGeom>
          <a:noFill/>
          <a:ln w="0">
            <a:noFill/>
          </a:ln>
        </p:spPr>
        <p:txBody>
          <a:bodyPr anchor="ctr">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entury Schoolbook"/>
              </a:rPr>
              <a:t>I</a:t>
            </a:r>
            <a:r>
              <a:rPr b="0" lang="en-US" sz="4600" spc="-1" strike="noStrike">
                <a:solidFill>
                  <a:srgbClr val="000000"/>
                </a:solidFill>
                <a:latin typeface="Century Schoolbook"/>
              </a:rPr>
              <a:t>nstead of throwing away his shoes when they get a hole in them, Edward gets them repaired so that he doesn’t have to create more waste</a:t>
            </a:r>
            <a:r>
              <a:rPr b="0" lang="en-US" sz="4500" spc="-1" strike="noStrike">
                <a:solidFill>
                  <a:srgbClr val="000000"/>
                </a:solidFill>
                <a:latin typeface="Century Schoolbook"/>
              </a:rPr>
              <a:t>.</a:t>
            </a:r>
            <a:endParaRPr b="0" lang="en-US" sz="4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5466"/>
                </a:solidFill>
                <a:latin typeface="Century Schoolbook"/>
              </a:rPr>
              <a:t>CLASSIFY THE FOLLOWING SITUATIONS AS REUSE, REDUCE, OR RECYCLE:</a:t>
            </a:r>
            <a:r>
              <a:rPr b="0" lang="en-US" sz="2700" spc="-1" strike="noStrike">
                <a:solidFill>
                  <a:srgbClr val="465466"/>
                </a:solidFill>
                <a:latin typeface="Century Schoolbook"/>
              </a:rPr>
              <a:t>   </a:t>
            </a:r>
            <a:r>
              <a:rPr b="0" lang="en-US" sz="2700" spc="-1" strike="noStrike">
                <a:solidFill>
                  <a:srgbClr val="465466"/>
                </a:solidFill>
                <a:latin typeface="Century Schoolbook"/>
              </a:rPr>
              <a:t>	</a:t>
            </a:r>
            <a:r>
              <a:rPr b="0" lang="en-US" sz="2700" spc="-1" strike="noStrike">
                <a:solidFill>
                  <a:srgbClr val="465466"/>
                </a:solidFill>
                <a:latin typeface="Century Schoolbook"/>
              </a:rPr>
              <a:t>       8</a:t>
            </a:r>
            <a:endParaRPr b="0" lang="en-US" sz="2700" spc="-1" strike="noStrike">
              <a:solidFill>
                <a:srgbClr val="465466"/>
              </a:solidFill>
              <a:latin typeface="Century Schoolbook"/>
            </a:endParaRPr>
          </a:p>
        </p:txBody>
      </p:sp>
      <p:sp>
        <p:nvSpPr>
          <p:cNvPr id="403" name=""/>
          <p:cNvSpPr txBox="1"/>
          <p:nvPr/>
        </p:nvSpPr>
        <p:spPr>
          <a:xfrm>
            <a:off x="703440" y="1614600"/>
            <a:ext cx="7772400" cy="4572000"/>
          </a:xfrm>
          <a:prstGeom prst="rect">
            <a:avLst/>
          </a:prstGeom>
          <a:noFill/>
          <a:ln w="0">
            <a:noFill/>
          </a:ln>
        </p:spPr>
        <p:txBody>
          <a:bodyPr anchor="ctr">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Century Schoolbook"/>
              </a:rPr>
              <a:t>Malaysia always turns off the lights when she leaves the house to use up less energy.</a:t>
            </a:r>
            <a:endParaRPr b="0" lang="en-US" sz="5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Century Schoolbook"/>
            </a:endParaRPr>
          </a:p>
          <a:p>
            <a:pPr marL="272880" indent="-272880">
              <a:lnSpc>
                <a:spcPct val="80000"/>
              </a:lnSpc>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INDEPENDENT PRACTICE</a:t>
            </a:r>
            <a:endParaRPr b="0" lang="en-US" sz="3000" spc="-1" strike="noStrike">
              <a:solidFill>
                <a:srgbClr val="465466"/>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examples of natural resources?</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 </a:t>
            </a:r>
            <a:r>
              <a:rPr b="0" lang="en-US" sz="4000" spc="-1" strike="noStrike">
                <a:solidFill>
                  <a:srgbClr val="000000"/>
                </a:solidFill>
                <a:latin typeface="Century Schoolbook"/>
              </a:rPr>
              <a:t>Why are they important?</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renewable resources?</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some examples of renewable resource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r>
              <a:rPr b="0" lang="en-US" sz="3000" spc="-1" strike="noStrike">
                <a:solidFill>
                  <a:srgbClr val="465466"/>
                </a:solidFill>
                <a:latin typeface="Century Schoolbook"/>
              </a:rPr>
              <a:t>	</a:t>
            </a:r>
            <a:endParaRPr b="0" lang="en-US" sz="3000" spc="-1" strike="noStrike">
              <a:solidFill>
                <a:srgbClr val="465466"/>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non-renewable resources?</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some examples of non-renewable resource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LET’S PRACTICE…</a:t>
            </a:r>
            <a:endParaRPr b="0" lang="en-US" sz="3000" spc="-1" strike="noStrike">
              <a:solidFill>
                <a:srgbClr val="465466"/>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inexhaustible resources?</a:t>
            </a:r>
            <a:endParaRPr b="0" lang="en-US" sz="4000" spc="-1" strike="noStrike">
              <a:solidFill>
                <a:srgbClr val="000000"/>
              </a:solidFill>
              <a:latin typeface="Century Schoolbook"/>
            </a:endParaRPr>
          </a:p>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What are some examples of inexhaustible resource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RESOURCE CONSERVATION</a:t>
            </a:r>
            <a:endParaRPr b="0" lang="en-US" sz="3000" spc="-1" strike="noStrike">
              <a:solidFill>
                <a:srgbClr val="465466"/>
              </a:solidFill>
              <a:latin typeface="Century Schoolbook"/>
            </a:endParaRPr>
          </a:p>
        </p:txBody>
      </p:sp>
      <p:pic>
        <p:nvPicPr>
          <p:cNvPr id="364" name="Picture 3" descr=""/>
          <p:cNvPicPr/>
          <p:nvPr/>
        </p:nvPicPr>
        <p:blipFill>
          <a:blip r:embed="rId2"/>
          <a:stretch/>
        </p:blipFill>
        <p:spPr>
          <a:xfrm>
            <a:off x="1382760" y="1601640"/>
            <a:ext cx="6313320" cy="474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OBJECTIVE</a:t>
            </a:r>
            <a:endParaRPr b="0" lang="en-US" sz="3000" spc="-1" strike="noStrike">
              <a:solidFill>
                <a:srgbClr val="465466"/>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entury Schoolbook"/>
              </a:rPr>
              <a:t>After today you will be able to explain the meaning of each of the 3R’s in Reuse, Reduce,, Recycle and give examples for each.  You will be able to classify green actions by the 3R’s.</a:t>
            </a:r>
            <a:endParaRPr b="0" lang="en-US" sz="4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5466"/>
                </a:solidFill>
                <a:latin typeface="Century Schoolbook"/>
              </a:rPr>
              <a:t>BIG GOAL CONNECTION</a:t>
            </a:r>
            <a:endParaRPr b="0" lang="en-US" sz="3000" spc="-1" strike="noStrike">
              <a:solidFill>
                <a:srgbClr val="465466"/>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80b6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entury Schoolbook"/>
              </a:rPr>
              <a:t>80% Mastery</a:t>
            </a:r>
            <a:endParaRPr b="0" lang="en-US" sz="5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9T12:54:53Z</dcterms:created>
  <dc:creator>Caroline Roth</dc:creator>
  <dc:description/>
  <dc:language>en-US</dc:language>
  <cp:lastModifiedBy>Caroline Roth</cp:lastModifiedBy>
  <dcterms:modified xsi:type="dcterms:W3CDTF">2011-05-23T22:40:46Z</dcterms:modified>
  <cp:revision>21</cp:revision>
  <dc:subject/>
  <dc:title>Bellringer</dc:title>
</cp:coreProperties>
</file>